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6.jpeg" ContentType="image/jpeg"/>
  <Override PartName="/ppt/media/image42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16.jpeg" ContentType="image/jpeg"/>
  <Override PartName="/ppt/media/image37.png" ContentType="image/png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43.jpeg" ContentType="image/jpeg"/>
  <Override PartName="/ppt/media/image40.jpeg" ContentType="image/jpeg"/>
  <Override PartName="/ppt/media/image44.png" ContentType="image/pn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1F6-44F5-414B-AC47-7F48D5F0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BB7-D4D6-441B-8CDB-D20E4A0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7CE-33D3-486C-AD3B-886B8C03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02A-F764-4118-BEE0-2D95C929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04C8-1CA3-4D77-A0C5-F7F55998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9410-820E-40EC-8966-3A7EBA1E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68D-F3AB-458B-A023-A3369281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E7FA-0DC9-4367-A47B-E3D0B287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D422-85DF-4639-824E-C2BCCB0A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BD3-7B2C-41B2-A2FB-F55CE5D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18B-823E-4F0B-8440-67A943B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618-E949-4DF3-A6A8-AF4882E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FE7F-B23B-4B6B-A86E-B1918BB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2E0-2791-4A31-972B-986419C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D556-0253-4DA3-86E1-AFC0B05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205D-BD4E-44AB-8869-CC14685F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606D-35E9-47D8-B159-000CBAA5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F8CE-3024-4BEE-9AAA-3F14C7A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5017-3597-4A4F-B51E-BCC181EF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EB32-E5BD-4858-B931-8956E204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0D6B-194C-4D14-BEAF-0C8E4FBD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EABD-FB01-4B97-B7DC-AC94F6A7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FBD-1DC8-4A66-9602-461CECC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2782-39F2-4DC0-9391-EB71BCE9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3936-8C6F-4CA7-9785-D7BC3F2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DAAE-AAA3-4BEE-B72F-4B0DE4D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8223-E7A2-4EBC-B511-4C8EBAD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4CDA-AABD-4F7C-8796-82BA72F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4E32-B0CB-4D41-87AE-847522C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3D88-0182-4444-BB74-DBDD3FAF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B2E-3A98-46F2-B382-15416960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578-7A6B-4B1B-B7C8-5F092E84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F8B-651E-480F-971F-D8AC2F66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E91-5FA9-4BB9-921E-CF989DF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B5C-CD9F-4BBA-B1EA-D2BC84E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BFB-638A-4FF0-A079-393C8AC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5DC-9C59-42AD-BCCF-0E96BA69D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EBD-D8C3-4785-9008-61E7B16DFB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FAD3-3009-48B4-A5ED-465B079D42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7.jpeg"/><Relationship Id="rId12" Type="http://schemas.openxmlformats.org/officeDocument/2006/relationships/image" Target="../media/image27.jpeg"/><Relationship Id="rId13" Type="http://schemas.openxmlformats.org/officeDocument/2006/relationships/image" Target="../media/image27.jpeg"/><Relationship Id="rId14" Type="http://schemas.openxmlformats.org/officeDocument/2006/relationships/image" Target="../media/image27.jpeg"/><Relationship Id="rId15" Type="http://schemas.openxmlformats.org/officeDocument/2006/relationships/image" Target="../media/image27.jpe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6.xml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slide" Target="slide11.xml"/><Relationship Id="rId17" Type="http://schemas.openxmlformats.org/officeDocument/2006/relationships/image" Target="../media/image1.png"/><Relationship Id="rId18" Type="http://schemas.openxmlformats.org/officeDocument/2006/relationships/slide" Target="slide12.xml"/><Relationship Id="rId19" Type="http://schemas.openxmlformats.org/officeDocument/2006/relationships/image" Target="../media/image1.png"/><Relationship Id="rId20" Type="http://schemas.openxmlformats.org/officeDocument/2006/relationships/slide" Target="slide13.xml"/><Relationship Id="rId21" Type="http://schemas.openxmlformats.org/officeDocument/2006/relationships/image" Target="../media/image1.png"/><Relationship Id="rId22" Type="http://schemas.openxmlformats.org/officeDocument/2006/relationships/slide" Target="slide14.xml"/><Relationship Id="rId23" Type="http://schemas.openxmlformats.org/officeDocument/2006/relationships/image" Target="../media/image1.png"/><Relationship Id="rId24" Type="http://schemas.openxmlformats.org/officeDocument/2006/relationships/slide" Target="slide15.xml"/><Relationship Id="rId25" Type="http://schemas.openxmlformats.org/officeDocument/2006/relationships/image" Target="../media/image1.png"/><Relationship Id="rId26" Type="http://schemas.openxmlformats.org/officeDocument/2006/relationships/slide" Target="slide16.xml"/><Relationship Id="rId27" Type="http://schemas.openxmlformats.org/officeDocument/2006/relationships/image" Target="../media/image1.png"/><Relationship Id="rId28" Type="http://schemas.openxmlformats.org/officeDocument/2006/relationships/slide" Target="slide17.xml"/><Relationship Id="rId29" Type="http://schemas.openxmlformats.org/officeDocument/2006/relationships/image" Target="../media/image1.png"/><Relationship Id="rId30" Type="http://schemas.openxmlformats.org/officeDocument/2006/relationships/slide" Target="slide18.xml"/><Relationship Id="rId31" Type="http://schemas.openxmlformats.org/officeDocument/2006/relationships/image" Target="../media/image1.png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himes.wav"/><Relationship Id="rId46" Type="http://schemas.openxmlformats.org/officeDocument/2006/relationships/audio" Target="../media/chimes.wav"/><Relationship Id="rId4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>
            <a:hlinkClick r:id="rId1" action="ppaction://hlinksldjump"/>
          </p:cNvPr>
          <p:cNvSpPr/>
          <p:nvPr/>
        </p:nvSpPr>
        <p:spPr>
          <a:xfrm>
            <a:off x="250920" y="6093000"/>
            <a:ext cx="1368360" cy="5047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8534" h="21600">
                <a:moveTo>
                  <a:pt x="0" y="0"/>
                </a:moveTo>
                <a:lnTo>
                  <a:pt x="58534" y="0"/>
                </a:lnTo>
                <a:lnTo>
                  <a:pt x="58534" y="21600"/>
                </a:lnTo>
                <a:lnTo>
                  <a:pt x="0" y="21600"/>
                </a:lnTo>
                <a:close/>
              </a:path>
              <a:path fill="lightenLess" w="58534" h="21600">
                <a:moveTo>
                  <a:pt x="0" y="0"/>
                </a:moveTo>
                <a:lnTo>
                  <a:pt x="58534" y="0"/>
                </a:lnTo>
                <a:lnTo>
                  <a:pt x="57134" y="1400"/>
                </a:lnTo>
                <a:lnTo>
                  <a:pt x="1400" y="1400"/>
                </a:lnTo>
                <a:close/>
              </a:path>
              <a:path fill="darken" w="58534" h="21600">
                <a:moveTo>
                  <a:pt x="58534" y="0"/>
                </a:moveTo>
                <a:lnTo>
                  <a:pt x="58534" y="21600"/>
                </a:lnTo>
                <a:lnTo>
                  <a:pt x="57134" y="20200"/>
                </a:lnTo>
                <a:lnTo>
                  <a:pt x="57134" y="1400"/>
                </a:lnTo>
                <a:close/>
              </a:path>
              <a:path fill="darkenLess" w="58534" h="21600">
                <a:moveTo>
                  <a:pt x="58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34" y="20200"/>
                </a:lnTo>
                <a:close/>
              </a:path>
              <a:path fill="lighten" w="58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4" h="21600">
                <a:moveTo>
                  <a:pt x="25768" y="10800"/>
                </a:moveTo>
                <a:lnTo>
                  <a:pt x="36273" y="3794"/>
                </a:lnTo>
                <a:lnTo>
                  <a:pt x="36273" y="17806"/>
                </a:lnTo>
                <a:close/>
              </a:path>
              <a:path fill="darken" w="58534" h="21600">
                <a:moveTo>
                  <a:pt x="22261" y="3794"/>
                </a:moveTo>
                <a:lnTo>
                  <a:pt x="23923" y="3794"/>
                </a:lnTo>
                <a:lnTo>
                  <a:pt x="23923" y="17806"/>
                </a:lnTo>
                <a:lnTo>
                  <a:pt x="22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3068280"/>
            <a:ext cx="84358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Содружество наук: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 история и литерату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68360" y="404640"/>
            <a:ext cx="813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500720" y="50720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лена Евгеньевна Воро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. Т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19640" y="1557360"/>
            <a:ext cx="507672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олеон Бонапарт утверждал: "...только от... (этих весьма недостойных людей) я слышу истину". Назовите и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2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6668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6">
            <a:hlinkClick r:id="rId2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42920" y="1628640"/>
            <a:ext cx="54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рнард Шоу говорил: "Теперь, когда мы научились лететь по воздуху, как птицы, плавать под водой, как рыбы, не хватает только одного: научиться жить на земле...". Закончите эту фр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6516720" y="189000"/>
            <a:ext cx="220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5997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ьего гнева, по мнению Сенеки, "людей погибло не меньше, чем от гнева царей"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565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506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го, по мнению Хельмута Мольтке, германского военного деятеля, генерал-полковника, не может пережить ни один план военной кампан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084720" y="907920"/>
            <a:ext cx="1849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840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Н.Толстой называл их "реформаторами, которых превратили в революционеров", П. Вяземский - "утопистами, романтическими политиками или политическими дилетантами", а Ф.Тютчев посвятил им следующие строки: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жертвы мысли безрассудн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уповали, может бы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танет крови вашей скудн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ечный полюс растопить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ва дымясь, она сверкну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ковой громаде льд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железная дохнула,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оставила следов.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ом идет речь в вопро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1369800" cy="1727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0" y="3284640"/>
            <a:ext cx="1420920" cy="15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5"/>
          <a:stretch/>
        </p:blipFill>
        <p:spPr>
          <a:xfrm>
            <a:off x="5796000" y="3943440"/>
            <a:ext cx="2867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7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7380360" y="0"/>
            <a:ext cx="1484280" cy="2276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2459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325520" cy="1942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"/>
          <p:cNvPicPr/>
          <p:nvPr/>
        </p:nvPicPr>
        <p:blipFill>
          <a:blip r:embed="rId4"/>
          <a:stretch/>
        </p:blipFill>
        <p:spPr>
          <a:xfrm>
            <a:off x="7786800" y="3213000"/>
            <a:ext cx="1357200" cy="1873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8560" y="1915920"/>
            <a:ext cx="577044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го русского анархиста Б. Шоу назвал "одним из святых столетия"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О. Уайльд считал его жизнь совершенной. На предложение Керенского занять любой пост во временном правительстве, он ответил: "Я считаю ремесло чистильщика сапог более честным и полезным делом"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9280" y="836280"/>
            <a:ext cx="684036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деятель Великой французской революции принадлежал к младшей ветви древнего дворянского рода, один из его предков был маршалом Франции, соратником Жанны д’Арк. Историки называют его "героем трех революций": двух французских и американской, а знаменитый современник - драматург Бомарше - "молодым сумасшедшим маркизом, который, не довольствуясь тем, что открыл Америке свое сердце, открыл ей и свой кошелек". Америка не забыла своего героя: 40 городов и населенных пунктов США носят имя этого революционера. А согласно опросам, проводимым во Франции, он является самым популярным и уважаемым революционным деятелем этой стран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92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80360" cy="26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"ИСЛАМ"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вспоминают мусульмане, перебирая нитки четок с 33, 66 или 99 бусинам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611280" y="620640"/>
            <a:ext cx="6697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Т В МЕШКЕ"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10" descr="1070949_1"/>
          <p:cNvPicPr/>
          <p:nvPr/>
        </p:nvPicPr>
        <p:blipFill>
          <a:blip r:embed="rId1"/>
          <a:stretch/>
        </p:blipFill>
        <p:spPr>
          <a:xfrm>
            <a:off x="7451640" y="3789360"/>
            <a:ext cx="1438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332000" y="3284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пламенного латиноамериканского революционера Анри Барбюс называл "генералом свободных людей", Ромен Роллан - "героем, история которого заставляет трепетать сердца", а Герман Гессе - "живым воплощением свободы". О ком идет речь в вопрос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451640" y="1700280"/>
            <a:ext cx="139860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6877080" y="3068640"/>
            <a:ext cx="1423800" cy="194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160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826920" y="981000"/>
            <a:ext cx="7561440" cy="422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тор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ун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547640" y="1052640"/>
            <a:ext cx="60487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ун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51280" y="1700280"/>
            <a:ext cx="79056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79280" y="1484280"/>
            <a:ext cx="324036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ЕМНОГО О 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79280" y="3321000"/>
            <a:ext cx="338472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ЕЛИКИЕ ЗАВОЕВ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5157720"/>
            <a:ext cx="3240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788000" y="1700280"/>
            <a:ext cx="7905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5724360" y="1700280"/>
            <a:ext cx="79092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732720" y="1700280"/>
            <a:ext cx="7905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7740720" y="1700280"/>
            <a:ext cx="1152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3922560" y="3500280"/>
            <a:ext cx="79056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4859280" y="3500280"/>
            <a:ext cx="79056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5796000" y="3500280"/>
            <a:ext cx="790560" cy="64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6804000" y="3500280"/>
            <a:ext cx="79056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7812000" y="3500280"/>
            <a:ext cx="1152720" cy="64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922560" y="5013360"/>
            <a:ext cx="790560" cy="64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4859280" y="5013360"/>
            <a:ext cx="790560" cy="64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796000" y="5013360"/>
            <a:ext cx="790560" cy="64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6804000" y="5013360"/>
            <a:ext cx="790560" cy="64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7812000" y="5013360"/>
            <a:ext cx="1152720" cy="64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30"/>
          <p:cNvSpPr txBox="1"/>
          <p:nvPr/>
        </p:nvSpPr>
        <p:spPr>
          <a:xfrm>
            <a:off x="1908000" y="404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второго раунд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AutoShape 31"/>
          <p:cNvSpPr/>
          <p:nvPr/>
        </p:nvSpPr>
        <p:spPr>
          <a:xfrm>
            <a:off x="8101080" y="6237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25481" y="10800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468360" y="9079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Он полон самомнения до смешного; но оно до того опутывает меня, что я считаю возможным все, что ни пожелает этот странный человек", - так писала об этом молодом генерале Жозефина Богарне. Назовите его и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714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 время как наш герой ухаживал в Калифорнии за дочерью испанского губернатора, подчиненные ему лейтенанты Хвостов и Давыдов на фрегате "Юнона" и тендере "Авось" самовольно уничтожили японские поселения на Сахалине и Южнокурильских острова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905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"КОЕ-ЧТО О ШУМЕ"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 Готье называл это "самым дорогим из шумов", Гюго - "неприятным шумом", Наполеону это расстраивало нервы, а Дарвину помогало сосредоточиться. Суворов же считал, что это должно быть громким. Скажите, о чем идет речь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6"/>
          <p:cNvSpPr txBox="1"/>
          <p:nvPr/>
        </p:nvSpPr>
        <p:spPr>
          <a:xfrm>
            <a:off x="611280" y="620640"/>
            <a:ext cx="6697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Т В МЕШКЕ"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Picture 7" descr="1070949_1"/>
          <p:cNvPicPr/>
          <p:nvPr/>
        </p:nvPicPr>
        <p:blipFill>
          <a:blip r:embed="rId1"/>
          <a:stretch/>
        </p:blipFill>
        <p:spPr>
          <a:xfrm>
            <a:off x="7451640" y="3789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246" name="New Stories (Highway Blues).wma" descr=""/>
          <p:cNvPicPr/>
          <p:nvPr/>
        </p:nvPicPr>
        <p:blipFill>
          <a:blip r:embed="rId2"/>
          <a:stretch/>
        </p:blipFill>
        <p:spPr>
          <a:xfrm>
            <a:off x="8028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9371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1187280" y="404640"/>
            <a:ext cx="727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1 г. в Москве у присяжного поверенного, работавшего в австрийском посольстве, родилась рыжеволосая девочка, которую он назвал в честь возлюбленной Гете - Лили Шенеман. Ее младшей сестрой была известная французская писательница Эльза Триоле (жена Арагона). Сама же наша героиня стала главной музой знаменитого советского поэта. В 1978 г., сломав бедро и поняв, что не сможет ходить, она приняла смертельную дозу снотворного. Прах ее был развеян под Звенигородом. О ком идет реч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3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2354040" cy="32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1600200" cy="1933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"/>
          <p:cNvPicPr/>
          <p:nvPr/>
        </p:nvPicPr>
        <p:blipFill>
          <a:blip r:embed="rId4"/>
          <a:stretch/>
        </p:blipFill>
        <p:spPr>
          <a:xfrm>
            <a:off x="5219640" y="3860640"/>
            <a:ext cx="1905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мане "Девятое термидора" М. Алданов дал прекрасное описание заседания конвента, на котором был арестован Робеспьер. В отрывке, который будет процитирован, речь идет об одном из героев этого дн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...все позабыл и связно ни о чем не думал. Обезумевший от физической страсти, он знал и помнил только одно: либо Робеспьер погибнет сегодня, либо Тереза Кабаррю завтра взойдет на эшафот. Со второй фразы Сен-Жюста его вдруг прервал бешеный истерический крик... он говорил не то, что сказал бы Барер и что в нормальной обстановке могло бы быть всего вреднее для партии диктатора. Но вместе с тем Барер чувствовал, что... губит Робеспьера; губит не содержаньем слов, а чем-то иным, от чего люди встают с мест, от чего сжимаются кулаки, и бледнеют лица, и ярость подкатывает к горлу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Данный текст не содержит ни капли вымысл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Назовите фамилию влюбленного депутат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557600" cy="22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обственному признанию Геринга, именно это имя носила его совес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6324480" y="3645000"/>
            <a:ext cx="19940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50920" y="476280"/>
            <a:ext cx="561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мой книгой этого царя и полководца была "Илиада" Гомера, рано погибшего Ахиллеса наш герой считал счастливцем потому, что при жизни тот имел преданного друга, а после смерти - великого глашатая своей славы. О ком идет речь в вопро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6156360" y="692280"/>
            <a:ext cx="26668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яя труд воинов, безделье которых казалось ему опасным, этот великий полководец засадил оливковыми деревьями огромные пространства Афр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020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3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971640" y="1628640"/>
            <a:ext cx="71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армии этого страшного завоевателя был самый большой в истории срок службы - с 14 лет до 7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19130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>
            <a:hlinkClick r:id="rId1" action="ppaction://hlinksldjump"/>
          </p:cNvPr>
          <p:cNvSpPr/>
          <p:nvPr/>
        </p:nvSpPr>
        <p:spPr>
          <a:xfrm>
            <a:off x="2771640" y="1628640"/>
            <a:ext cx="79236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9280" y="1484280"/>
            <a:ext cx="24480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ЕННАЯ 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79280" y="3357720"/>
            <a:ext cx="24480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ЫСЛИ ВЕЛИ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79280" y="5157720"/>
            <a:ext cx="24480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ВОЛЮЦИОН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>
            <a:hlinkClick r:id="rId3" action="ppaction://hlinksldjump"/>
          </p:cNvPr>
          <p:cNvSpPr/>
          <p:nvPr/>
        </p:nvSpPr>
        <p:spPr>
          <a:xfrm>
            <a:off x="8244000" y="623736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>
            <a:hlinkClick r:id="rId4" action="ppaction://hlinksldjump"/>
          </p:cNvPr>
          <p:cNvSpPr/>
          <p:nvPr/>
        </p:nvSpPr>
        <p:spPr>
          <a:xfrm>
            <a:off x="3851280" y="1628640"/>
            <a:ext cx="79200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>
            <a:hlinkClick r:id="rId6" action="ppaction://hlinksldjump"/>
          </p:cNvPr>
          <p:cNvSpPr/>
          <p:nvPr/>
        </p:nvSpPr>
        <p:spPr>
          <a:xfrm>
            <a:off x="4859280" y="1628640"/>
            <a:ext cx="792360" cy="642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>
            <a:hlinkClick r:id="rId8" action="ppaction://hlinksldjump"/>
          </p:cNvPr>
          <p:cNvSpPr/>
          <p:nvPr/>
        </p:nvSpPr>
        <p:spPr>
          <a:xfrm>
            <a:off x="5940360" y="1628640"/>
            <a:ext cx="792360" cy="642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>
            <a:hlinkClick r:id="rId10" action="ppaction://hlinksldjump"/>
          </p:cNvPr>
          <p:cNvSpPr/>
          <p:nvPr/>
        </p:nvSpPr>
        <p:spPr>
          <a:xfrm>
            <a:off x="7093080" y="1628640"/>
            <a:ext cx="792000" cy="642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>
            <a:hlinkClick r:id="rId12" action="ppaction://hlinksldjump"/>
          </p:cNvPr>
          <p:cNvSpPr/>
          <p:nvPr/>
        </p:nvSpPr>
        <p:spPr>
          <a:xfrm>
            <a:off x="2843280" y="3429000"/>
            <a:ext cx="792000" cy="6426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>
            <a:hlinkClick r:id="rId14" action="ppaction://hlinksldjump"/>
          </p:cNvPr>
          <p:cNvSpPr/>
          <p:nvPr/>
        </p:nvSpPr>
        <p:spPr>
          <a:xfrm>
            <a:off x="3922560" y="3429000"/>
            <a:ext cx="792360" cy="6426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>
            <a:hlinkClick r:id="rId16" action="ppaction://hlinksldjump"/>
          </p:cNvPr>
          <p:cNvSpPr/>
          <p:nvPr/>
        </p:nvSpPr>
        <p:spPr>
          <a:xfrm>
            <a:off x="4930920" y="3429000"/>
            <a:ext cx="792000" cy="6426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>
            <a:hlinkClick r:id="rId18" action="ppaction://hlinksldjump"/>
          </p:cNvPr>
          <p:cNvSpPr/>
          <p:nvPr/>
        </p:nvSpPr>
        <p:spPr>
          <a:xfrm>
            <a:off x="6012000" y="3429000"/>
            <a:ext cx="792000" cy="6426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>
            <a:hlinkClick r:id="rId20" action="ppaction://hlinksldjump"/>
          </p:cNvPr>
          <p:cNvSpPr/>
          <p:nvPr/>
        </p:nvSpPr>
        <p:spPr>
          <a:xfrm>
            <a:off x="7164360" y="3429000"/>
            <a:ext cx="792360" cy="64260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>
            <a:hlinkClick r:id="rId22" action="ppaction://hlinksldjump"/>
          </p:cNvPr>
          <p:cNvSpPr/>
          <p:nvPr/>
        </p:nvSpPr>
        <p:spPr>
          <a:xfrm>
            <a:off x="2916360" y="5300640"/>
            <a:ext cx="792000" cy="64260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>
            <a:hlinkClick r:id="rId24" action="ppaction://hlinksldjump"/>
          </p:cNvPr>
          <p:cNvSpPr/>
          <p:nvPr/>
        </p:nvSpPr>
        <p:spPr>
          <a:xfrm>
            <a:off x="3995640" y="5300640"/>
            <a:ext cx="792360" cy="64260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>
            <a:hlinkClick r:id="rId26" action="ppaction://hlinksldjump"/>
          </p:cNvPr>
          <p:cNvSpPr/>
          <p:nvPr/>
        </p:nvSpPr>
        <p:spPr>
          <a:xfrm>
            <a:off x="5003640" y="5300640"/>
            <a:ext cx="792360" cy="642600"/>
          </a:xfrm>
          <a:prstGeom prst="rect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>
            <a:hlinkClick r:id="rId28" action="ppaction://hlinksldjump"/>
          </p:cNvPr>
          <p:cNvSpPr/>
          <p:nvPr/>
        </p:nvSpPr>
        <p:spPr>
          <a:xfrm>
            <a:off x="6084720" y="5300640"/>
            <a:ext cx="792360" cy="64260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>
            <a:hlinkClick r:id="rId30" action="ppaction://hlinksldjump"/>
          </p:cNvPr>
          <p:cNvSpPr/>
          <p:nvPr/>
        </p:nvSpPr>
        <p:spPr>
          <a:xfrm>
            <a:off x="7237440" y="5300640"/>
            <a:ext cx="792000" cy="642600"/>
          </a:xfrm>
          <a:prstGeom prst="rect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3"/>
          <p:cNvSpPr txBox="1"/>
          <p:nvPr/>
        </p:nvSpPr>
        <p:spPr>
          <a:xfrm>
            <a:off x="1908000" y="404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первого раунда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8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мператорской Франции говорили, что эти люди только усмехаются, когда при них называют Наполеона непобедимым. Назовите хотя бы некоторых из них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0"/>
          <p:cNvSpPr txBox="1"/>
          <p:nvPr/>
        </p:nvSpPr>
        <p:spPr>
          <a:xfrm>
            <a:off x="971640" y="836640"/>
            <a:ext cx="7632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раун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воя игр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55640" y="213372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у книгу в обязательном порядке должны были с 1935 г. приобретать все молодожены Герм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55640" y="213372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и книги Карамзин называл "священными книгами народов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55640" y="21337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эти книги появились в середине ХIII века в Дании, а в ХIV и ХV веках они распространились во Франции и Италии. Сейчас они издаются во всех странах и есть в каждом до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971640" y="836640"/>
            <a:ext cx="7632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раун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воя игр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55640" y="213372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му священнику, политическому деятелю времен Ивана Грозного, одно время имевшему на царя большое влияние, большинство исследователей приписывают авторство книги "Домостр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3bm"/>
          <p:cNvPicPr/>
          <p:nvPr/>
        </p:nvPicPr>
        <p:blipFill>
          <a:blip r:embed="rId2"/>
          <a:stretch/>
        </p:blipFill>
        <p:spPr>
          <a:xfrm>
            <a:off x="395280" y="189000"/>
            <a:ext cx="2832120" cy="19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755640" y="213372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нению Ж. Сименона, эта знаменитая книга является самой жестокой из всех когда-либо напис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1714320" cy="193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 rot="19812600">
            <a:off x="4500720" y="4436640"/>
            <a:ext cx="1714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4"/>
          <p:cNvSpPr txBox="1"/>
          <p:nvPr/>
        </p:nvSpPr>
        <p:spPr>
          <a:xfrm>
            <a:off x="539640" y="692280"/>
            <a:ext cx="8136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рет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ун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Темы финального</a:t>
            </a: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859280" y="1341360"/>
            <a:ext cx="396072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Вопрос от А.Дю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95280" y="1341360"/>
            <a:ext cx="403380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Что русскому здо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716360" y="3141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Из уроков для отрав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716360" y="5373720"/>
            <a:ext cx="410364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О пользе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25233116"/>
          <p:cNvPicPr/>
          <p:nvPr/>
        </p:nvPicPr>
        <p:blipFill>
          <a:blip r:embed="rId1"/>
          <a:stretch/>
        </p:blipFill>
        <p:spPr>
          <a:xfrm>
            <a:off x="395280" y="2852640"/>
            <a:ext cx="26575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1692360" y="1484280"/>
            <a:ext cx="59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Небезызвестный граф Монте-Кристо, поучая будущую отравительницу мадам де Вильфор, рассказывал ей, что в России едят то, что моментально отправило бы на тот свет француза или итальянца. Какие продукты имел в виду граф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>
            <a:hlinkClick r:id="" action="ppaction://hlinkshowjump?jump=firstslide"/>
          </p:cNvPr>
          <p:cNvSpPr/>
          <p:nvPr/>
        </p:nvSpPr>
        <p:spPr>
          <a:xfrm>
            <a:off x="179280" y="544500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30691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  <a:path fill="darken" w="68379" h="21600">
                <a:moveTo>
                  <a:pt x="27183" y="3794"/>
                </a:moveTo>
                <a:lnTo>
                  <a:pt x="28845" y="3794"/>
                </a:lnTo>
                <a:lnTo>
                  <a:pt x="28845" y="17806"/>
                </a:lnTo>
                <a:lnTo>
                  <a:pt x="271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6524640" y="48960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5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128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усско-японской войны английский наблюдатель Я. Гамильтон сообщал об этом роде войск, что единственное, на что он способен, - варить рис для пехотинцев. К похожему выводу пришел и немецкий военный наблюдатель М. Хоффман. К сожалению, в России этот род войск существовал и (с огромными потерями) использовался даже во время второй мировой войн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5364000" y="5229360"/>
            <a:ext cx="28576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1914 г. целая бригада французской армии была переброшена за ночь на расстояние в 50 км. Какой вид общественного транспорта был использован для перевозки войск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6012000" y="422100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611280" y="620640"/>
            <a:ext cx="6697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Т В МЕШКЕ"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6" descr="1070949_1"/>
          <p:cNvPicPr/>
          <p:nvPr/>
        </p:nvPicPr>
        <p:blipFill>
          <a:blip r:embed="rId2"/>
          <a:stretch/>
        </p:blipFill>
        <p:spPr>
          <a:xfrm>
            <a:off x="7451640" y="3789360"/>
            <a:ext cx="1438200" cy="1438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95280" y="1484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1403280" y="404640"/>
            <a:ext cx="561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"МУШКЕТЕРЫ"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ые мушкетерские роты охраны появились во Франции при Генрихе IV в 1600 г. и просуществовали до 1775 г., когда были расформированы Людовиком ХVI в целях экономии. Численность их составляла от 300 до 450 человек. Назовите признак, по которому они распределялись по двум ротам - "серых" и "черных" мушке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>
            <a:hlinkClick r:id="rId3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4"/>
          <a:stretch/>
        </p:blipFill>
        <p:spPr>
          <a:xfrm>
            <a:off x="6804000" y="458136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5"/>
          <a:stretch/>
        </p:blipFill>
        <p:spPr>
          <a:xfrm>
            <a:off x="7667640" y="5229360"/>
            <a:ext cx="114300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ужие, несмотря на запрещение его применения Лотранским собором 1139 г., продолжало широко применяться пехотой европейских армий вплоть до ХVI ве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500720" y="4292640"/>
            <a:ext cx="2904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5327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у несправедливую и братоубийственную войну верноподданнические газеты Англии называли "любимой войной короля" Георга II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2667240" cy="3876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5796000" y="4365720"/>
            <a:ext cx="31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ль Великобритан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октября 1760 — 29 января 1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7252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великий реформатор церкви утверждал: «Если мне скажут, что завтра наступит конец света, то еще сегодня я посадил бы дере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>
            <a:hlinkClick r:id="rId2" action="ppaction://hlinksldjump"/>
          </p:cNvPr>
          <p:cNvSpPr/>
          <p:nvPr/>
        </p:nvSpPr>
        <p:spPr>
          <a:xfrm>
            <a:off x="39528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4976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  <a:path fill="darken" w="36949" h="21600">
                <a:moveTo>
                  <a:pt x="11468" y="3794"/>
                </a:moveTo>
                <a:lnTo>
                  <a:pt x="13131" y="3794"/>
                </a:lnTo>
                <a:lnTo>
                  <a:pt x="13131" y="17806"/>
                </a:lnTo>
                <a:lnTo>
                  <a:pt x="114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971640" y="836640"/>
            <a:ext cx="7632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м достается раун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воя игр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190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3:50:05Z</dcterms:created>
  <dc:creator>User</dc:creator>
  <dc:description/>
  <dc:language>en-US</dc:language>
  <cp:lastModifiedBy>Елена</cp:lastModifiedBy>
  <dcterms:modified xsi:type="dcterms:W3CDTF">2016-08-10T08:54:32Z</dcterms:modified>
  <cp:revision>48</cp:revision>
  <dc:subject/>
  <dc:title>Слайд 1</dc:title>
</cp:coreProperties>
</file>